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D1A-00B9-422A-912D-ED2A73A52A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F49-373C-42D2-92A8-C1BD91BBA7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BAA-478C-4D7F-B5C0-5D655BFB25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EB0-445A-4F16-82D2-7B955E4BF4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EDEB-A180-4987-8584-1FE0F2CC0F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2C0-103E-48BD-9B0F-E7BC7B1C1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488-D4B9-4581-ABC3-549EA6A2C6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EDD-CB65-4962-82A0-60454AFE83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A12-6786-43C0-BC72-38A1D9CB2A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0EDE-10CF-4A25-AF06-70E0F4F172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B3E5-F461-4CB0-B9C8-CCB9D68A8A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0E78-E625-4F41-9873-75092A9916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142-CD36-4C7A-844F-F92CC5EF9A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84E-E57F-49A0-A3B0-CBBF6DC5F1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782A-6C22-4830-AC80-8D51883F98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27D-D5F3-440A-8CA9-98A971EA01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39A-3AA2-4D30-8C34-AFBFA3A369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D8D-ED65-4770-8D7F-411DD4935C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A63-F87D-41F2-8E36-978F6BCB63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973-4ED7-4811-9FF2-8EA56C1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321-CFFE-4EF1-96DB-6570DECA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141-B9FF-42E1-8D75-FFFF2C48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53B-4791-491C-8669-6741C691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F9ED-C344-44DC-A1D7-C7899D29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8B5-606B-4CE4-9FE5-F6813F8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808-F101-4920-9ED5-01E8346F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DA00-4DB5-4EDA-AAE4-348A1051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81E-A634-4F73-8221-CCD14D1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4E84-DCB9-4991-91AC-AA13ED7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68EB-54D7-43EF-9125-2554656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40F-FA24-45E3-A13B-A0A95E5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51CC-9F57-4892-96D9-479554F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BEE-8A68-4F4C-9539-E7A6C78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330-0A20-4BFF-AB90-A3A0A48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F1A-3425-4444-ACF5-F9285DA3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890-1B03-48CE-84FF-2B899CA2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25A1-DD4B-4851-BFE9-71979B4B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DF2B-4ACF-4174-9FBA-93242A9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D21D-71C8-4733-9993-D30320AE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991E-3593-43EB-82BF-C0B0C21F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7823-794F-4B22-8F8A-4F077A5A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3B2-9852-4558-B7C1-04329FD8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B468-61D6-44FE-8709-5ADD584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0527-1082-42C1-9700-1C42CA3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9F3F-666E-4094-B30D-CE11E86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E231-86C4-4799-8F49-D4223C9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EEA9-544A-4B12-9CBA-2866927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7376-7BCD-4B34-BE64-1FED4103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FCC5-5B18-46D2-9053-2AF19C12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E9F5-6FE5-4B48-9D5A-AB742587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0B1A-8922-417F-B6C0-5B3FA50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6E2C-C320-4CBA-B060-AA511BAF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5B0-449E-4802-8438-A62B068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D92F-37D9-42C2-8DCB-29A2F08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ECCB-3A66-4980-9B99-8AAC56C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CD1F-D89E-4C72-A3F4-D71A7ED5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A23C-49CE-4787-AEB1-4EBE263E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4675-D486-4063-AFBF-7682AE1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0291-48C3-4C94-A76E-8D0B32A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DFFC-C14A-40A6-B68F-1AFE92E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FAC7-B0F6-4930-AFC5-A0791565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27E5-A260-4362-9DCB-ACB60CB4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427F-CCE8-470E-B2D0-1E3C165E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EE1-139E-47AC-8FBB-3B52DA40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F01D-33DC-482D-BD9C-EF2DB21E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15F2-BF39-4F95-A98C-B22132E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75B7-ED6D-452B-B49F-C2E1CC3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5B62-F002-48C1-8C99-5D712E01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5789A-6AEA-4ECF-B911-159CC99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BED7-5056-46B0-9374-DC683AD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D618-8661-4131-B305-8A18AF3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49E3-5CF9-4D40-8DB2-9726331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B944-F6D4-4233-A0C3-AED5396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9BA8-63D0-4A34-9C32-7994A9F5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3A6-E7C6-4E27-86E2-17C2585A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AD6A-7364-4CB4-80CB-E64EF668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49F9-704F-4A4D-89F4-D6E2E17D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5AFC-2E69-4F86-9A92-915DADED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2C5F-06BB-4E74-9D85-D62D731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7B75-A4D2-4561-BBE0-75C9022E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870A-CD41-483A-86B9-7D8596A0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6714D-B006-40E4-BBD5-351A3F16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218D-9328-4DA5-AA7D-7AD80C5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460E-FEDF-456D-897E-D645211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A0EA-D308-463B-870E-245B3AA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265-EB1C-4273-9A13-B3A2764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9BD27-A421-468C-A98F-10563CBA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E0A8-6638-4DBC-8390-F2486FA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E811-E85E-441C-B681-E9181777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3782-EF9D-4610-A1D2-A2C147B5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43DB-279A-4535-BFDD-1DE31653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6FFE-BB91-400E-BB5E-B9A4B87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DAB9-CF84-4FCF-9A75-08E9371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8016-B3D6-45F9-8755-2A96AC4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BD52-1707-40A6-A100-EB2AE8B0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3AFE0-65F4-4A82-969E-950261CA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C84-78A5-4FD8-A719-33412F17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40FD-8A2A-4F1F-BDE1-B32A4FE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B2131-08FC-4F02-A820-32A03B6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258F-8D0F-4B04-AADC-3EF61E47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2DA2-8F91-48C5-B60E-CB52ECBF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ACFB-8460-48AC-81B8-F3B8B6A0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812E-B32E-4415-BDC6-140BA763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5A47-BDBB-457C-9F28-9264008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92AB-4054-4723-9144-9943813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AB14-9769-4F1E-BB7B-98BCA69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07834-2D5D-4B90-8AEE-68C08DE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FD4-DFE5-4782-A05A-6BCE82D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204F-EDBC-4D10-9EC3-EE676917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29BD2-C130-4CAF-98D8-013CB15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3118-1075-4276-8EFB-58F5EE2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145A5-8E10-433D-A4B2-978C2E3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CDB52-4F2D-4FF5-A07B-FA2F84C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063D-3E4C-43F0-93DB-209D6C01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6922B-B7C1-428D-B8ED-94BBC095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A65B-1BD4-4EC0-81F8-5FDD248C1CCF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CA2-B42F-4463-A9EC-ECFFE1DA5C86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10AF-2086-46D8-9D2D-6F7D85F8CDBE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3A28-76D8-4DAE-8623-62C6174D12B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7A5A-BD81-4B0F-96A9-8B0F4395DC06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765C-0AE2-4117-A25B-6F6370EE7DA0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riangle isocè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272-6124-4621-BB3D-F5388321D686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DD5-0807-4410-B12C-653A56EE7B2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EED7-71F5-4BE6-BB12-A15058D03CE8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CFD-9849-4B6A-B432-104D08611D6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Connecteur droit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riangle isocè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4329-AC6B-474B-99DB-323AD7FF536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095-F29A-462B-B0A3-5DCE021A5D1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3B8-3509-4F3F-8B15-A28DF08CC3C1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08F-287D-4428-8CB7-E558F8127151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Connecteur droit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CA12-8143-4A82-809F-1F459AFD13F9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894-1479-477D-8BEE-6587A6240590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marseille2012@reseauprojection.or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829-E331-463C-9ADD-AA98CC05E2E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3780000" y="836640"/>
            <a:ext cx="1728720" cy="1400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6"/>
          <p:cNvSpPr/>
          <p:nvPr/>
        </p:nvSpPr>
        <p:spPr>
          <a:xfrm>
            <a:off x="1187280" y="413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La contribution des jeunes professio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Espace réservé du contenu 2"/>
          <p:cNvSpPr/>
          <p:nvPr/>
        </p:nvSpPr>
        <p:spPr>
          <a:xfrm>
            <a:off x="1187280" y="2617920"/>
            <a:ext cx="705672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« D’un monde de bidonvilles à un monde de solutions 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7740720" y="175428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"/>
          <p:cNvPicPr/>
          <p:nvPr/>
        </p:nvPicPr>
        <p:blipFill>
          <a:blip r:embed="rId3"/>
          <a:stretch/>
        </p:blipFill>
        <p:spPr>
          <a:xfrm>
            <a:off x="684360" y="189720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4140360" y="4941720"/>
            <a:ext cx="936360" cy="11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6EC8-1576-4F2B-A6AD-B2C7E7903639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Connecteur droit 13"/>
          <p:cNvSpPr/>
          <p:nvPr/>
        </p:nvSpPr>
        <p:spPr>
          <a:xfrm>
            <a:off x="1332000" y="206064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76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2"/>
          <p:cNvSpPr/>
          <p:nvPr/>
        </p:nvSpPr>
        <p:spPr>
          <a:xfrm>
            <a:off x="647640" y="2060640"/>
            <a:ext cx="84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f7f7f"/>
                </a:solidFill>
                <a:latin typeface="Gill Sans MT"/>
              </a:rPr>
              <a:t>Une quarantaine de solutions collectées à ce jou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3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74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116000" y="2565360"/>
          <a:ext cx="7272360" cy="3816360"/>
        </p:xfrm>
        <a:graphic>
          <a:graphicData uri="http://schemas.openxmlformats.org/drawingml/2006/table">
            <a:tbl>
              <a:tblPr/>
              <a:tblGrid>
                <a:gridCol w="206280"/>
                <a:gridCol w="4533840"/>
                <a:gridCol w="1105200"/>
                <a:gridCol w="1427040"/>
              </a:tblGrid>
              <a:tr h="168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tion of technical standards for water supply networks in informal settl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ènagement des ta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force 5000 - Emergency water production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g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counting application for low-cost water monitoring k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zen Intitiative to Enhance Water Governance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-Led Urban Environmental Sanitation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age et calibrage des dra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inage des eaux pluv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the Role of Water Vendors in the Sustainable and Safe Water Provisioning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du réseau public de distribution d’eau potable, promotion des branchements particuliers et installation des bornes fontaines payantes communautai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tion à la construction, à l’utilisation et à l’entretien des 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approach in water supplies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/ education/ inst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al water and Sanitation strategies in Slum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ing drinking water access in peri-urban areas and implementation of a local water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on of Low Income Urban Community for Improved Water Supply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utionnel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program for cholera’s elim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R of 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 pratique de tarification de l'e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es D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9377-72AE-4DB5-95EB-108672D2918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Connecteur droit 13"/>
          <p:cNvSpPr/>
          <p:nvPr/>
        </p:nvSpPr>
        <p:spPr>
          <a:xfrm>
            <a:off x="1332000" y="198900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1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7020000" y="692280"/>
            <a:ext cx="1439640" cy="1166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4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85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32000" y="2060640"/>
          <a:ext cx="6480000" cy="4321080"/>
        </p:xfrm>
        <a:graphic>
          <a:graphicData uri="http://schemas.openxmlformats.org/drawingml/2006/table">
            <a:tbl>
              <a:tblPr/>
              <a:tblGrid>
                <a:gridCol w="183960"/>
                <a:gridCol w="4040280"/>
                <a:gridCol w="984240"/>
                <a:gridCol w="12715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plan design and institutional strenghtening for water supply and sanitation improvement in  peri-urban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e en place d’un dispositif de gestion pérenne des bornes fontaines pay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water payments in Urban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stakeholders financing of the connection of informal settlements to basic water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channel diverting wastewater from Spring in slu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poo ba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et mise à la disposition des ménages des récipients adaptés pour la conservation et manipulation de l’eau de boisson dans les log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 of Rainwater in Coastal Urban in Bangladesh for Safe Water Solution in Light of Climate Change and Adap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-poor action in Mede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Pro Poor Water Services in Urban Areas through Multi Partner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financ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the urban poor with ecological toilets through revolving loan fu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, Tanza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water and sanitation services to the urban poor in Bhubanesw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hing the poor- Slum networking in Ahmedab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m mapp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p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piped sew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waste management for cleaner water down str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p the persistence of waterborne diseases and the economic recov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access to water and sanitation in the informal settlements : the delegated master operator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waste reduction, job creation and income generation in the slu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 communautaire semi-collectif d’assainiss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Implementation of Successful Social Programmes in the Provision of Water Servi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sex Uri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 Networ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/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8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337C-1683-41DD-82A7-4A3F0A7D56A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755640" y="2338560"/>
            <a:ext cx="79930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Conception générale de l’ex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ur un espace de 200 m² d’exposition au sein du « Village des solutions »,  il est prévu une visite en 3 temps 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u contexte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visite classique avec panneaux d’inform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es solution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immersion au sein d’habitats précaires et mise en situation des solu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space de conférences et de débat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9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7D81-72E9-4DA7-A2F8-21FA2363D25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898040" cy="424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193920" cy="3520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6782-5C93-46A6-99D1-49D2EFF5CB68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>
            <a:off x="755640" y="2338560"/>
            <a:ext cx="6048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1 – Exposition du contex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finition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Ampleur du phénomène dans le mon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auses et formation d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lieux d’implantation et le fonci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a vie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évolution du bidonville, acteurs et types d’interven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njeu de l’accès à l’eau et à l’assainiss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26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2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EC75-4192-40E9-ACB1-F40EFEFB3A2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2"/>
          <p:cNvSpPr/>
          <p:nvPr/>
        </p:nvSpPr>
        <p:spPr>
          <a:xfrm>
            <a:off x="3708360" y="2338560"/>
            <a:ext cx="5111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2 – Exposition des 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quinzaine de solutions exposées à l’intérieur et autour de la reproduction d’habitat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Supports visuels et démonst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incipe de la réalité augmenté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ictogrammes pour créer un f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onducte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3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336240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492360" cy="3807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745-DC85-4603-BD5A-07CEF978FC7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395280" y="2421000"/>
            <a:ext cx="604836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3 – Espace de déb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 programme de conférences tout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ong de la semaine sur les questions d’accès à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au et à l’assainissement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moments d’échange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intervention de toutes les parti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enant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(ex. Low level panel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9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5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83EA-FF63-4941-B028-70467D8B3DB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2"/>
          <p:cNvSpPr/>
          <p:nvPr/>
        </p:nvSpPr>
        <p:spPr>
          <a:xfrm>
            <a:off x="755640" y="2395440"/>
            <a:ext cx="8137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groupes pour trois thèmes de réflex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grands messages à faire pass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typologie des sol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sujets et de formats originaux pour les débat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tem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hacun remplit la boite à idées de son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pouillement et débats au sein de chaque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Restitution en session pléniè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61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398680"/>
            <a:ext cx="6191280" cy="44593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B3CE-110F-4D04-8615-B3CFC4A20E5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2"/>
          <p:cNvSpPr/>
          <p:nvPr/>
        </p:nvSpPr>
        <p:spPr>
          <a:xfrm>
            <a:off x="1116000" y="23385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2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7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AB6E-0998-4E96-BC99-A3CD82A4C4D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7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55640" y="2398680"/>
            <a:ext cx="8388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ill Sans MT"/>
              </a:rPr>
              <a:t>Le Forum Mondial de l’Eau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plus grand évènement  international du secteu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ous les 3 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25 000 participants : Professionnels, décideurs et société civi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Un constat : peu de visibilité pour l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B5A-0482-4E4A-A067-7164D5360D5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2"/>
          <p:cNvSpPr/>
          <p:nvPr/>
        </p:nvSpPr>
        <p:spPr>
          <a:xfrm>
            <a:off x="2700360" y="2338560"/>
            <a:ext cx="6048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Qu’est-ce qui change au 6</a:t>
            </a:r>
            <a:r>
              <a:rPr b="1" lang="fr-FR" sz="3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 Forum Mondial de l’Ea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12 au 17 mars à Marseil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« Le temps des solutions » =&gt; engag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contribution préparée et visibl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9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324000" y="3141720"/>
            <a:ext cx="203508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677-EF96-4719-A327-A72971F03B9F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360" y="2378160"/>
            <a:ext cx="867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participer a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droit d’entrée 2 fois moins cher que pour les seni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250 euros (OCDE) ou 150 euros (hors OCD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accompagnement personnalis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selon votre profil et vos att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0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0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55D-2BC3-48B4-BB8F-F22AA430996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324000" y="2421000"/>
            <a:ext cx="8675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rencontrer et échanger en dehors d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Auberg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Plus de 100 places à tarifs négociés à 15 mn à pieds du for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s animations quotidiennes, pour échanger, rencontrer………… ……et se détendr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ouvert à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1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EEB-DCE5-4ECF-AD0B-E307A9A51AD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468360" y="2378160"/>
            <a:ext cx="867564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leur donner de la visibili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rédacteur de la newsletter officielle du Fo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Entre 25 et 40 jeunes professionnels du monde enti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Transport et séjour intégralement pris en cha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Réponse avant le 22 janvier (CV+présentation en anglais) à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marseille2012@reseauprojection.or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23E5-1ABC-4186-B312-334265FC500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468360" y="23781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contribuer aux débats</a:t>
            </a:r>
            <a:r>
              <a:rPr b="0" lang="fr-FR" sz="24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3"/>
          <a:srcRect l="0" t="2520" r="0" b="0"/>
          <a:stretch/>
        </p:blipFill>
        <p:spPr>
          <a:xfrm>
            <a:off x="611280" y="3429000"/>
            <a:ext cx="4357440" cy="2787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305080" cy="1841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2987640" y="350028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Focus Bidonvi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Straight Connector 17"/>
          <p:cNvSpPr/>
          <p:nvPr/>
        </p:nvSpPr>
        <p:spPr>
          <a:xfrm>
            <a:off x="2843280" y="4941720"/>
            <a:ext cx="324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627280" y="4869000"/>
            <a:ext cx="21600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6084720" y="3429000"/>
            <a:ext cx="2590920" cy="28083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08360"/>
              <a:gd name="textAreaBottom" fmla="*/ 2682000 h 2808360"/>
            </a:gdLst>
            <a:ahLst/>
            <a:rect l="textAreaLeft" t="textAreaTop" r="textAreaRight" b="textAreaBottom"/>
            <a:pathLst>
              <a:path w="21600" h="23413">
                <a:moveTo>
                  <a:pt x="3600" y="0"/>
                </a:moveTo>
                <a:arcTo wR="3600" hR="3600" stAng="16200000" swAng="-5400000"/>
                <a:lnTo>
                  <a:pt x="0" y="19813"/>
                </a:lnTo>
                <a:arcTo wR="3600" hR="3600" stAng="10800000" swAng="-5400000"/>
                <a:lnTo>
                  <a:pt x="18000" y="23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C:\Users\Assoprojection JHH\Desktop\projection perso\LOGO FME grand.jpg"/>
          <p:cNvPicPr/>
          <p:nvPr/>
        </p:nvPicPr>
        <p:blipFill>
          <a:blip r:embed="rId5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23A-974A-4F04-8A04-E69484FC0F1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755640" y="2338560"/>
            <a:ext cx="79930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Objectif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orter le sujet des quartiers précaires au cœur du 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F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ématique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 </a:t>
            </a:r>
            <a:r>
              <a:rPr b="0" i="1" lang="fr-FR" sz="2200" spc="-1" strike="noStrike">
                <a:solidFill>
                  <a:srgbClr val="000000"/>
                </a:solidFill>
                <a:latin typeface="Gill Sans MT"/>
              </a:rPr>
              <a:t>Avant que le bidonville ne devienne une référence urbaine, comment l’accès aux services de base peut-il être un facteur levier de développement local de ces quartiers, pour une intégration à terme dans l’espace urbain en tant que quartier salubre 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5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1E9-D3C4-480F-89A2-23768B245E85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395280" y="2349360"/>
            <a:ext cx="853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 travail collaborat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groupe de travail de JP pertinents sur la question des quartiers préca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comité de pilotage et des partenariats techniques (AFD, GRET, UN-Habit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Des ateliers JP mis en place dans le cadre des Forum Nationaux de l’Eau et de l’Assainissement d’Afrique de l’Ouest pour alimenter le f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appel international à solutions pour l’eau et à l’assainissement dans les bidonvilles pour encourager la participation de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6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12:40Z</dcterms:created>
  <dc:creator>Projection Défis Sud</dc:creator>
  <dc:description/>
  <dc:language>en-US</dc:language>
  <cp:lastModifiedBy>Projection</cp:lastModifiedBy>
  <dcterms:modified xsi:type="dcterms:W3CDTF">2012-02-02T18:24:51Z</dcterms:modified>
  <cp:revision>188</cp:revision>
  <dc:subject/>
  <dc:title>Diapositive 1</dc:title>
</cp:coreProperties>
</file>